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CA50-6910-46F7-A090-9DE3A109B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EFD7-4DB6-4FF7-861A-4E9ABAABBA9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4297-8481-4B3A-B2F4-35998048CD7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95DB-3737-4247-A59A-7289C9FF2EF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AD23-486D-4893-87FD-E384125D5F9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C800-BA3B-4EDE-B594-C2B0FE22143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D7E8-A88F-40F0-90C1-1A32D0D5C10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60BE-BF1F-43C2-BF51-A5B9FD3B339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C9D8-F83D-46BA-B09A-268B1B9B130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AFEA-488A-4F13-804F-C54D2DE34D6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06DE-3319-4403-AB02-7C77811A9EC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21B3-A180-4339-9F8B-187245A4B58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C92C-31B1-4A87-9E6D-6DC049E96F9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1BE3-6BF5-44E7-939B-ABFA005A188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8AC-05C7-4B2A-91EE-AB6BCF6157B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5890-4834-49BC-9F44-D85659026A4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9079-4EAC-42DB-939E-B59911883ED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048C-633A-424A-B027-0FD689EAB9A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7E2-41A0-4CAE-B622-8F6462AD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A02-6E92-4A6B-A63D-0AE02FE8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221-C1AD-4B5F-BD78-F8F4FBA9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C33F-FF5C-49DA-8022-E938E75E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117A-D8BE-4222-A2CE-7A7ADC07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9756-3DA4-4AAC-BA36-5B1A473F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5750-0FAC-49BF-AC6C-96064D07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D361-EBF3-4090-8CEE-A930F25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BE55-92BF-4CC8-8DF5-1F0546AB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B98E-6CCB-4635-8A12-5411FFD3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0E1B-7913-4344-82B9-9FCC530F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4AF-D37F-4CC2-A348-72A277F2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902-92D7-4481-9CB8-ACA919FD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869C-B859-4DFD-A3F7-49A61AC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6213-D79D-4474-A85A-81FF1A35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9B3A-F157-4A3C-AE35-18782506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3A0F-98E7-4D86-B675-71672842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ADF-1D3E-4EA2-B574-18B9C621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8D6-BFF1-4DF2-B2F0-B339985C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B61-815C-4141-95E3-1DD179C8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D45-82CA-419E-B651-5C556A8C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4DB1-7D6C-4D70-9962-CC7B21E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1D6-9612-4082-862E-4D199FE0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3CE-402F-451C-98A7-6C51726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E62D-3A4C-4713-B4C4-66F94809C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965A-B175-4A4D-9BB6-1634FABFE57E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southernct.edu/~brownm/300genre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Genre: Teaching Elements of Fantasy and Non-Fiction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trategy: Asking Questions &amp; Visualizing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7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2376360" y="2590920"/>
            <a:ext cx="173664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4648320" y="2971800"/>
            <a:ext cx="167616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6629400" y="4724280"/>
            <a:ext cx="16765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tacognitiv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aching Fra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38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546480" y="1455840"/>
            <a:ext cx="2294640" cy="7030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 DO - YOU WATCH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INK-ALOU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1685520" y="2590920"/>
            <a:ext cx="2061360" cy="13129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 DO - YOU HELP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FIN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mall group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guided practic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886200" y="3432240"/>
            <a:ext cx="3809880" cy="128304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 HELP - YOU DO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T STRATEGY USE G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Apply with peer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(lit circles, center activities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5105520" y="4876920"/>
            <a:ext cx="3962160" cy="70380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 WATCH - 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ELF-ASSESS &amp; SET GOAL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4: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Knowing Fact, Fiction,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d Fantas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’s the differenc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a volcano erupts, hot melted rock called magma is pushed to the surface of the earth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iant cracks split the stone floor as Jack and Annie ran to a window and looked out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a great flash of fire, a strong man that looked like a gladiator picked them up and placed them both on the other bank of the stream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3280320" y="1219320"/>
            <a:ext cx="271980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CT (Non-fictio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395280" y="1219320"/>
            <a:ext cx="231120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6546960" y="1219320"/>
            <a:ext cx="15829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NTAS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406920" y="2438280"/>
            <a:ext cx="8575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?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6406920" y="3809880"/>
            <a:ext cx="8575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?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6406920" y="5181480"/>
            <a:ext cx="8575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?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’s the differenc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alistic Fict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tory about something that is untrue, but it could actually happen (it’s realistic) – some events, people, and places may even be real (adventure stories, family stories, societal or psychological problem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antasy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tory of the impossible – it contains some form of magic and/or enchant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Non-Fiction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 or factual material presented to instruct the reader (science, art, human development, lands, and peopl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Arial"/>
              </a:rPr>
              <a:t>Can you locate examples of each in your Magic Treehouse book?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280320" y="1219320"/>
            <a:ext cx="271980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CT (Non-fictio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700200" y="1219320"/>
            <a:ext cx="231120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6546960" y="1219320"/>
            <a:ext cx="1582920" cy="459720"/>
          </a:xfrm>
          <a:prstGeom prst="rect">
            <a:avLst/>
          </a:prstGeom>
          <a:solidFill>
            <a:srgbClr val="ffd1d1"/>
          </a:solidFill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NTAS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5-Point Star 9">
            <a:hlinkClick r:id="rId5"/>
          </p:cNvPr>
          <p:cNvSpPr/>
          <p:nvPr/>
        </p:nvSpPr>
        <p:spPr>
          <a:xfrm>
            <a:off x="8001000" y="6019920"/>
            <a:ext cx="685800" cy="609480"/>
          </a:xfrm>
          <a:prstGeom prst="pie">
            <a:avLst/>
          </a:prstGeom>
          <a:solidFill>
            <a:srgbClr val="330000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4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lanning the Activity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art A.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Knowing Fact, Realistic Fiction, &amp; Fantasy: Locate examples of each and sort statements into three list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art B.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riefly describe an activity that requires students to separate fact from fiction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art C. Planning Your Teach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rite a short think-aloud to help students understand the difference between a story event that is fictional and fantastic (using particular examples from your text to illustrate the difference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5: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rategy Instruction for Visualizing (Ch. 6) and Asking Questions (Ch. 7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Book Activity 5: Applying Reading Strategies in Vacation Under the Volcano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wo short script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ne for Visualiz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Explain, Define, Two Models &amp; Student response, Clarif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ne for Asking Ques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Explain, Define, Two Models &amp; Student response, Clarif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, what does your book teach you about: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Visualiz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Ch. 8) and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sking Question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Ch. 7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Visualizing (Ch. 8)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Visualize means to draw, diagram, imagine, make a picture in your hea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ake “personal inferences/connections” (text clues + background) but in picture fo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use your senses, emotional reaction, or text features to create a picture/feeling/moo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helps relate to characters, better understand the setting; connect new to old without word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t’s hard for some students: Start simpl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magine a huge plate of your favorite food.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e had the BEST day today! Picture in your mind what you did.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ew activities and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tes to share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download slides)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re notes on th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f quality fantasy and informational texts &amp; benefits of reading (Hancock, Ch. 4 &amp; 7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re notes on thre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structional model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rom your text that integrate multiple genres and text formats for unit study and response (Hancock, Ch. 14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minder: We will go to the library on Thursday to explore basal reading series.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Visualizing (Ch. 8)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del &amp; apply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the text you are reading (and ask students to notice how you visualized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pinning treehous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lively city streets of Pompeii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oothsay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volcano erup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&amp; Extend with practice activities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imelines, diagrams, setting quilt, draw to remember, sketch to stretch (see p.  138-151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king Questions (Ch. 7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Question answering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versus </a:t>
            </a: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question generating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: both solid strategies for supporting higher-level comprehension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Problem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: Questions not always relevant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Set a purpose at three key points: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Before reading…during reading…after reading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Why/How ask questions?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 To clarify meaning; understand vocabulary; locate specific info; connect; see/feel like…; summarize; extend learning; predict [Skim Ch.7 p. 123-129 for ideas] 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y recognizing the type of question being asked, students are better able to find the answ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, they don’t spend all their time looking for answers that are not “right there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y learn how to generate their own high-level (or low-level) ques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on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ck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ig picture concepts)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pecific details) that guide their own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lbert was afraid that Susan would beat him in the tennis match. The night before the match, Albert broke both of Susan’s racque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IGHT THERE: When did Albert break both of Susan’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&amp; SEARCH: Why did Albert break both of Susan’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 YOUR OWN: Why was Albert afraid that Susan would beat him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&amp; YOU: What does the author seem to imply about Albert in this pa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fer to your handouts for more exampl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reader)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teacher)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093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eedback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iz 1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wo booktalks &amp; Feedback on Book Activ 3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Clarify the role of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-aloud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 one part of reading comprehension strategy instruction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Clarify differences betwee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act, fiction, and fantasy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ook Activity 4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4. Introduce Strategy Instruction for Visualizing &amp; Asking Questions 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AR framework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5. Provide feedback for Quiz 1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mework and Next Wee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ue Thursday, Oct. 21 Book Activity 4 and 5 (Meet in the library and please be on tim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ANGE IN PLANS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ue Tuesday, Oct. 26: NO INTERNET WORKSHOP, BA #6, OR DISC MEMO #2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stea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hapter on Guided Reading and Read Lesson Plan Assignment – come with questions about the reading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ring in completed QAR handout too </a:t>
            </a: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(from class today)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ue Thursday, Oct. 29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Hollis Woods – Ch. 1-5 and first part of Summary Notes Sheet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wo booktalks &amp; Feedback on Book Activity 3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Clarify the role of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-aloud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 one part of reading comprehension strategy instruction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Clarify differences betwee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act, fiction, and fantasy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ook Activity 4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4. Introduce Strategy Instruction for Visualizing &amp; Asking Questions 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AR framework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5. Provide feedback for Quiz 1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eedback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3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Feedback - Book Activity 3: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hink-Aloud Strategy Script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Remember: The think aloud phase is all about the TEACHER DEFINING &amp; MODELING (</a:t>
            </a:r>
            <a:r>
              <a:rPr b="0" i="1" lang="en-US" sz="2500" spc="-1" strike="noStrike">
                <a:solidFill>
                  <a:srgbClr val="330000"/>
                </a:solidFill>
                <a:latin typeface="Arial"/>
              </a:rPr>
              <a:t>teaching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) the strategy and how and when to use it during real reading [Introduce, define, and explain]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We ask students to </a:t>
            </a: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notice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how we </a:t>
            </a: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applied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the strategy and then we clarify the key points before guided practice [Notice and Apply; Clarify]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Then we give students LOTS of time to PRACTICE and LET IT GEL [next phases…]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316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nect Two &amp; Explai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3513600" y="3276720"/>
            <a:ext cx="134820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EST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3285720" y="2362320"/>
            <a:ext cx="175644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EACH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647520" y="4114800"/>
            <a:ext cx="114696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ASK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282480" y="5029200"/>
            <a:ext cx="183132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MODEL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nect Two &amp; Explai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4961520" y="4114800"/>
            <a:ext cx="134820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EST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885920" y="2819520"/>
            <a:ext cx="175644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TEACH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20360" y="4114800"/>
            <a:ext cx="114696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ASK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139480" y="2819520"/>
            <a:ext cx="1831320" cy="642600"/>
          </a:xfrm>
          <a:prstGeom prst="rect">
            <a:avLst/>
          </a:prstGeom>
          <a:noFill/>
          <a:ln w="1908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MODEL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0" name="Straight Arrow Connector 10"/>
          <p:cNvCxnSpPr>
            <a:stCxn id="108" idx="3"/>
            <a:endCxn id="106" idx="1"/>
          </p:cNvCxnSpPr>
          <p:nvPr/>
        </p:nvCxnSpPr>
        <p:spPr>
          <a:xfrm>
            <a:off x="3673440" y="4438800"/>
            <a:ext cx="128016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>
            <a:stCxn id="106" idx="1"/>
            <a:endCxn id="108" idx="3"/>
          </p:cNvCxnSpPr>
          <p:nvPr/>
        </p:nvCxnSpPr>
        <p:spPr>
          <a:xfrm flipH="1" flipV="1">
            <a:off x="3673080" y="4438440"/>
            <a:ext cx="1280160" cy="2160"/>
          </a:xfrm>
          <a:prstGeom prst="straightConnector1">
            <a:avLst/>
          </a:prstGeom>
          <a:ln w="9360">
            <a:solidFill>
              <a:srgbClr val="33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Straight Arrow Connector 14"/>
          <p:cNvCxnSpPr>
            <a:stCxn id="109" idx="3"/>
            <a:endCxn id="107" idx="1"/>
          </p:cNvCxnSpPr>
          <p:nvPr/>
        </p:nvCxnSpPr>
        <p:spPr>
          <a:xfrm>
            <a:off x="3976200" y="3142800"/>
            <a:ext cx="90108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3" name="TextBox 15"/>
          <p:cNvSpPr/>
          <p:nvPr/>
        </p:nvSpPr>
        <p:spPr>
          <a:xfrm>
            <a:off x="1775520" y="518148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0000"/>
                </a:solidFill>
                <a:latin typeface="Arial"/>
              </a:rPr>
              <a:t>Don’t forget to teach first!! 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Metacognitive Teaching Framework</a:t>
            </a:r>
            <a:br>
              <a:rPr sz="36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ere is think-aloud in the process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685800" y="1981080"/>
            <a:ext cx="8538120" cy="2057400"/>
            <a:chOff x="685800" y="1981080"/>
            <a:chExt cx="8538120" cy="2057400"/>
          </a:xfrm>
        </p:grpSpPr>
        <p:sp>
          <p:nvSpPr>
            <p:cNvPr id="117" name="Rectangle 4"/>
            <p:cNvSpPr/>
            <p:nvPr/>
          </p:nvSpPr>
          <p:spPr>
            <a:xfrm>
              <a:off x="685800" y="1981080"/>
              <a:ext cx="6400800" cy="20574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18" name="TextBox 5"/>
            <p:cNvSpPr/>
            <p:nvPr/>
          </p:nvSpPr>
          <p:spPr>
            <a:xfrm>
              <a:off x="6843960" y="2514240"/>
              <a:ext cx="2379960" cy="1099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THINK-ALOUD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SCRIPT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00"/>
                  </a:solidFill>
                  <a:latin typeface="Arial"/>
                </a:rPr>
                <a:t>part of…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6643800" y="5029200"/>
            <a:ext cx="23446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ESSON PLA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21" name="Straight Arrow Connector 9"/>
          <p:cNvCxnSpPr/>
          <p:nvPr/>
        </p:nvCxnSpPr>
        <p:spPr>
          <a:xfrm flipH="1">
            <a:off x="8074800" y="3582720"/>
            <a:ext cx="3960" cy="14482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his framework is designed to support readers each step toward indep. reading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81280" y="19051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ink-alou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o explicitly model what, how, and when a strategy is use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ss discussions and peer interactions (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is key!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tegrate into practice activiti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help transfer new learning to other sett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oal: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elf-regulation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tudents monitor and fix-up themselves) and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depende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2133720"/>
          <a:ext cx="2971800" cy="373356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he Teacher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he Students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 do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watch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 do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help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 help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do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 watch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do</a:t>
                      </a:r>
                      <a:endParaRPr b="0" lang="en-US" sz="20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8:58Z</dcterms:created>
  <dc:creator>Julie Coiro</dc:creator>
  <dc:description/>
  <dc:language>en-US</dc:language>
  <cp:lastModifiedBy>Julie Coiro</cp:lastModifiedBy>
  <cp:lastPrinted>2009-10-19T14:47:12Z</cp:lastPrinted>
  <dcterms:modified xsi:type="dcterms:W3CDTF">2010-10-18T16:45:54Z</dcterms:modified>
  <cp:revision>295</cp:revision>
  <dc:subject/>
  <dc:title>Metacognitive Strategy Instruction to Enhance Reading Comprehension</dc:title>
</cp:coreProperties>
</file>